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3.png" ContentType="image/png"/>
  <Override PartName="/ppt/media/image5.pct" ContentType="image/x-pict"/>
  <Override PartName="/ppt/media/image6.pct" ContentType="image/x-pict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30E-0C24-493A-BF24-6E2378BA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CD3-8D2B-448A-828E-4C36B5C1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58F-4538-4C06-88A5-43364AED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91D-A177-4B09-AB60-532977C3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86B4-E686-4FED-9E97-D3A85F4F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F071-EF3B-45F1-8121-3A54449C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2D7F-785D-463E-BA2E-D8C1C851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FFC6-34D3-4A06-B600-F8132E69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F5BD-666F-45E4-B7A0-A5219864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56AA-BDC3-48DE-80AC-3E8A8916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9C2-343C-436B-9710-77F5AD7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F54-7105-419D-8D5A-EB34163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34C3-6EE6-4743-A43A-EEF7ED3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414E-19C1-4320-A6AC-0829806F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D7B2-FA57-4FCD-A35A-D9400411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01B6-6892-404F-93F2-F0B46B81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C2D7-EAE2-4FB5-A7B2-B11E5444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EA9-A1DD-41CC-B6D0-9AAB44A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EB7-D6D1-4CBB-857D-45C0551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02B-5080-4DE7-8401-DA38C8C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07C-CF31-4BAC-923B-004CB7C8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0D0-A5E6-4D7A-B6D8-AA32AD23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348-8F6D-4E04-86FB-818222EE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6A5-436D-4E33-8424-0C794EF8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F95D-A331-4CEB-BB6D-9EA6644AD7E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1192-FD5E-42AE-9CA9-82D5F59CEBC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video" Target="file:///tmp/home/.config/libreoffice/4/user/gallery/Embedded%20Sound%201" TargetMode="External"/><Relationship Id="rId3" Type="http://schemas.microsoft.com/office/2007/relationships/media" Target="file:///tmp/home/.config/libreoffice/4/user/gallery/Embedded%20Sound%201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video" Target="file:///tmp/home/.config/libreoffice/4/user/gallery/Embedded%20Sound%202" TargetMode="External"/><Relationship Id="rId3" Type="http://schemas.microsoft.com/office/2007/relationships/media" Target="file:///tmp/home/.config/libreoffice/4/user/gallery/Embedded%20Sound%202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Blackmoor LET"/>
              </a:rPr>
              <a:t>Insect Bites and S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8534520" y="-609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28840" y="41590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6039"/>
                </a:solidFill>
                <a:latin typeface="Arial"/>
              </a:rPr>
              <a:t>By: Alex S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2971800" cy="2377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63244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411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 flipH="1" rot="10800000">
            <a:off x="2743200" y="0"/>
            <a:ext cx="2514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92"/>
                            </p:stCondLst>
                            <p:childTnLst>
                              <p:par>
                                <p:cTn id="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92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92"/>
                            </p:stCondLst>
                            <p:childTnLst>
                              <p:par>
                                <p:cTn id="1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Blackmoor LET"/>
              </a:rPr>
              <a:t>Fist Aid for Bi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Wash the b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Apply a special lotion for bite/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406080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26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Blackmoor LET"/>
              </a:rPr>
              <a:t>First Aid for Insect S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-31356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Remove the stinger by scraping against it with a credit card or fingern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3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Apply ice or cold compresses to relieve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3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Watch for allerg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543400" cy="190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68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Blackmoor LET"/>
              </a:rPr>
              <a:t>Insects to stay away fr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Brazilian Wandering Sp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Africanized Honey B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Asian Ho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Siafu 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Bullet 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93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3:51Z</dcterms:created>
  <dc:creator>kms kms</dc:creator>
  <dc:description/>
  <dc:language>en-US</dc:language>
  <cp:lastModifiedBy>Kraybill Campus LMS</cp:lastModifiedBy>
  <dcterms:modified xsi:type="dcterms:W3CDTF">2011-05-17T13:09:48Z</dcterms:modified>
  <cp:revision>6</cp:revision>
  <dc:subject/>
  <dc:title>Insect Bites and Stings</dc:title>
</cp:coreProperties>
</file>